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2D61FF-6A95-432D-8B0E-96CC1D49A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punto de partida para esta sesión de información sobre el proyecto Esfera, es importante resaltar que el proyecto Esfera (el desarrollo de la Carta Humanitaria y  las Normas Mínimas en áreas esenciales de socorro en situaciones de emergencia) no tendría caso si, de hecho, se respetara el derecho internacional y en particular los instrumentos como el Derecho Humanitario Internacional y los tratados intern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recordar que son los actos de las partes beligerantes y, a menudo, la falta de compromiso de la comunidad internacional los que generan la mayor parte de conflictos y sufrimientos a los que responden las organizaciones de socorro. A decir verdad, los culpables principales no son las organizaciones de socor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sto no significa que en algunos proyectos de socorro mal diseñados y mal ejecutados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a esgrimir un contexto difícil como excusa razonable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n mejoramiento del desempeño reduciría directa, y quizás significativamente, las pérdidas humanas y el sufrimiento causados por una acción de mala calid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yecto Esfera indica que, como actores humanitarios, somos responsables de lo que podemos controlar. Nuestro compromiso de cara al logro de las Normas Mínimas es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clara de reconocer y asumir públicamente dicha responsabil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295280"/>
            <a:ext cx="390204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0574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295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Proyecto de la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yecto se centra en varias actividades relacionadas con sus funciones básicas de divulgación e implementación. Estas incluy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a conocer la existencia del proyecto por medio de presentaciones, e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io web, a través de boletines electrónico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g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manual en las ONG, la ONU, las instituciones académicas, entre los capacitador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ación sobr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c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ón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aje del manual en las 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ones técnicas del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todo el proc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á disponible más 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ón sobre todas estas actividades en el sitio web del proyec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e proyecto está dirigido por el Comité  de Administración, compuesto po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des ampliament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presenta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ncluyen a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os miembros del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ité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rectivo de Respuesta Hu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nitaria (CDRH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dos representantes de InterA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 observador de VOICE y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 de ICVA. Todos los miembros del Comité de Administración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umini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an el apo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financi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 proyecto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s demás aportaciones proceden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onantes que representa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3 país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Unión Europ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resumen, el proyecto Esfera 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a declaración de que las poblaciones afectadas por conflictos y calamidades tienen derecho a la asistencia y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rot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 compromiso público y transparent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n nivel de co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tencia y d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t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la ayuda definido y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ensu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a reco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aci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los conocimientos y de la experiencia actual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modo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herramienta práctica para los individuo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us organizaciones, así com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la comunidad humanitaria e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 reto para todos los actor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omunidad humanitari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con el fin d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r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responsabilidad y la c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vor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mar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ta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dirección del porta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para 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yo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nformació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retos humanitarios de hoy incluyen la complejidad creciente de la respuesta en casos de desast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umento d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sastres y el número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creciente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ctores humanitario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cuy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fi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ci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l éxit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rí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pendiendo de aqu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os 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iénes tengan que rendir cuentas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 ON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evan años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oc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ose por la calidad y la responsabilidad. La mayoría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con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l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ráctic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tr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ciona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la acción humanitaria ya no es suficiente y qu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 necesario u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nemos, en la comunidad humanitaria, algunos problemas sistémic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demanda rebasa los 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alidad va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trata d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er en marcha u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enguaje común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toda la comunidad humanitari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 el objetivo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um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transparencia, la responsabilidad y la coherenci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r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mejorar,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te tod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la calidad de la asistencia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frecida a las personas qu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piramos a ayud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o respuesta a este reconocimiento de que es necesari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ambio, el Proyecto Esfera fue cread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modo d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ativa abierta y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laborativa destinad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 mejorar la calidad de la respuesta en casos de desastre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 concibió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on el propósito de ayudar a la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rson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fectadas por desastres a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seguir el respeto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us derechos, de manera eficaz y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sponsabl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El Proyecto Esfera puede verse como un proceso que 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bogad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or el derecho universal de tod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las p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 la asistencia humanitar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grad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cuerd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tre 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 ONG sobre los principios y las accione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esencial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unid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normas mínimas de programación para desastres, basándose en lecciones y experiencias anteri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grado un consens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ción con l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ndicadores técnicos cl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resultado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este proceso ha sido el manual Esfera. El proceso también ha contribuido al 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te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ntro de la comunidad humanitaria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lativo 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calidad y a la rendición de cuentas en el trabajo humanit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es un proceso significativo: nunca antes se había observado una consulta tan extensa y generalizada en la comunidad humanitaria. La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n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 partici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ro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la elaboración del manual Esfera pr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dí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ONG nacionales e internacionales, organismos de la ONU e instituciones académicas. Miles de individuos, de más de 225 organizaciones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n representación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60 países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ticiparon en varios aspectos del Proyecto Esfera, 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de e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arro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l manual hasta el pilot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 la capacit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El proceso Esfera ha procurado ser inclusivo, transparente y represent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Esfer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consta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eis secciones principales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pezando po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Carta Humanitaria. Las cinco secciones restantes del manual Esfera son capítulos técnicos que ofrecen herramientas para aplicar los valores y principios de la Carta Humanitaria en los cinco sectores básicos. Estos sectores son: Abastecimiento d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ua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saneamiento, Nutrición, Ayuda alimentaria,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fugios y planificación de emplazamient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 Servicios de salud. Es importante resaltar que las norma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l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ndicadores de cada secto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Esfera son los que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ograro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n consenso. No representan la gama completa de normas técnicas exist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da uno de los capítulos técnicos comienza con una introducción sobre proces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omunes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e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iclo del proyecto, tales como l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uación inicial, el análisis, el seguimiento y la evaluación. Cada capítulo contiene una sección sobre participació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luye con una sección sobre capacidad y formación de recursos humanos, resaltando la competencia y el apoyo requeridos, así como incluye información sobre el fortalecimiento de las capacidades loc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arta Humanitaria proporciona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reflexión crítica sobre los valores y principios comunes de la comunidad humanitaria. La Carta Humanitaria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cluy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ompromis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romover la observancia de los principios humanitarios fundamentales y una apreciación de las obligaciones éticas de los trabajadores humanitarios y sus organizaciones. Esto refleja una creencia en el principio de humanidad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supremacía del mismo y la idea de que nuestras acciones deberán regirse por ese imperativo. Se declaran unos principios clave, extraídos tanto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ódigo de Conducta Relativo al Socorro en Casos de Desastre para el Movimiento Internacional de la Cruz Roja y de la Media Luna Roja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ONG,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o e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s partes relevantes del derecho internacional. Hay tres principios fundamentales.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l derecho a vivir con dignidad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basa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derecho internacional relativo a los derechos humanos,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 distinción entre combatientes y no combatientes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basada en los Convenios de Ginebra y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l principio de no devolución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basado en el derecho sobre los refugiados. La Carta Humanitaria también aclara las funciones y responsabilidades de distintos actores, tal como se describen en el derecho internacional. Además, define el compromiso de alcanzar unos niveles definidos de servicio (las normas mínimas), basa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 en la necesidad y en el derecho d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ndividuo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vivir con dignidad. Po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último,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reconoce que la rendición de cuentas fundamental de los actores humanitarios 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ara con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personas que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cura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yu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cada capítulo técnico, se proporcionan herramientas en forma de normas mínimas e indicadores clave. Las normas mínimas son metas universales que representan algu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 de 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una vida dig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todas l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rson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Los indicadores clave ayudan a las organizaciones a medir de forma práctic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visibl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l grado en q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é 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tisfa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norma. Hay tres tipos de indicadores en el manual: de resultados (cuantitativos), de proceso y de participación (cualitativo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indicadores son herramientas que usamos para medir no sólo los resultados sino también 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ecuenci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 impactos de nuestros programas y de los procesos que u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lizam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aplicar esos programas.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uso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ndicadores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ensurables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cuantificar y calificar los resultados es un elemento clave para determinar qué se está logrando en una operación de respuesta en caso de desastre. Los indicadores facilitan el diseño de programas, ayudan a establecer un registro claro de la lógica subyacent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n programa, proporcionan u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 modo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edición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calidad y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senta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osi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idad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proyectos colaborativos y transparentes. Cuando se usan adecuadamente, no sólo pueden ayudar a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ejar informaci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ino también a proteger el derecho de un individuo a acceder a servicios de calidad. Los indicadores solamente son una herramienta, pero pueden ser útiles de muchas man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notas de orientación proporcionan lecciones aprendidas de desastres anteriores. Ayudan a las personas a determinar indicadores adecuados a un contexto particular. 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L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péndices de cada capítulo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ofrece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orientación</a:t>
            </a: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erramientas adi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normas y los indicadores se pueden usar en diferentes aplicaciones y ofrecen varias posibilidades. Los indicadores clave pueden servir como preguntas de evaluación inicial, como puntos de referencia para el análisis, como metas para la planificación o como objetivos para el seguimiento y la evaluación. El manual Esfera puede usarse a lo largo del ciclo de la gestión del desastre, durante la preparación, la respuesta, la reconstrucción, la rehabilitación y hasta en la mitigación.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específicamente, las metas y el enfoque de la preparación para casos de desastre pueden basarse en el manual Esfera y en las lecciones cada vez numerosas que se extraen del programa pilot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de mayo de 2002, el manual Esfera está disponible en 17 idiomas y se está convirtiendo en una referencia internacionalmente reconoci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igual que  cualquier otra iniciativa, el proyecto Esfera ha suscitado una serie de problemas y retos. Por ejemplo, aunque hay un acuerdo amplio sobre la necesidad de una mayor capacitación para garantizar un desempeño óptimo por parte de los socorristas en entornos difíciles y complejos, también está presente la preocupación de saber que las organizaciones no tienen los recursos o la habilidad necesarios para proveer esa profesionalidad. Sin embargo, la calidad de la asistencia humanitaria ha mejorado mucho. Se aplican cada vez más directrices técnicas, las herramientas de planificación y de administración van mejorando y se observan más esfuerzos en relación con la supervisión y la evalu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ONG que trabajan en el terreno con el manual Esfera han expresado sus inquietudes sobre el problema de la pobreza generalizada y sobre la relación entre la población anfitriona y la población afectada por el desastre. Esto suscita temas de discusión relacionados con las faltas o las carencias de la comunidad de trabajadores de desarrollo, más que con las normas mínimas o los indica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3B6-E4E2-4C8E-AED5-A0EE1819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C0C-E8C4-4465-BA09-3B6BE4A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0E7-B159-486B-956F-49CC74EC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92B-8F60-4A0C-A7DA-6BC541E0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62C-7785-41EA-A704-49DE44E4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397-BA18-4E61-8CB1-E0E25C8C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521-D8C6-4DBE-AC70-DB089239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C12-F214-4C85-9EB5-BA90D43B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C31-CD8B-4FBA-A851-06FBDAEA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353-A15D-4EE5-8C0C-98490B1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ED9-81C5-4336-8B18-23838C8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A2E-ED83-4054-A426-3995FF0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2ED-BC64-411B-96B2-6F186879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17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81080"/>
            <a:ext cx="70866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"/>
            <a:ext cx="70102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85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810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87240"/>
            <a:ext cx="6172200" cy="1293840"/>
          </a:xfrm>
          <a:prstGeom prst="rect">
            <a:avLst/>
          </a:prstGeom>
          <a:solidFill>
            <a:srgbClr val="31216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yecto Esfera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2255760"/>
            <a:ext cx="87631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Breve sesión de información sobre el Proyecto Esfera</a:t>
            </a: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UI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al2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8724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8580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160" y="1523880"/>
            <a:ext cx="547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724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Principales actividades del Proyecto en 2002 - 200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066680"/>
            <a:ext cx="8686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r a conocer 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vulgación del manua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l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NG, la ONU, las institucione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adémicas, entre los capacitado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acitación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cerca d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la aplicación del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lotaje del manual en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ganizaciones 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rn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visiones técnicas del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valuación de todo 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 de miembros del Comité Directivo de Asistencia Humanitaria (7 redes además del CICR y de la FICR), InterAction, VOICE y IC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oyo de Australia, Bélgica, Canadá, Dinamarca, Inglaterra, Finlandia, Irlanda, Nueva Zelandia, Noruega, Los Países Bajos, Suecia, España, Estados Unidos y E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Gestión y Fon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91296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EL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manual en inglés, francés, español, ruso y portug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guía del instructor y el material de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udio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formación de 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genci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 pil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formes anu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oletines inform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ulario para solicitar el ví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219320"/>
            <a:ext cx="8153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28600"/>
            <a:ext cx="761976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www.sphereproject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terés de las ONG por la calidad y la responsabi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 sid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práctica histórica ya no es su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yor complejidad de los des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mento del número de des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aturaleza cambiante y mayor diversidad de la comunidad hum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úmero creciente de actores con diferentes maneras de medir el éx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uanda -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por parte de los diversos donantes: “Muertes innecesari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¿Por qué se necesita E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Los primeros pasos de la respuesta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bogar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por el derecho universal a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legar a u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cuerd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tre 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las ONG sobre los principi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básicos y las a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on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nir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normas mínimas de programac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n para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Lograr un </a:t>
            </a:r>
            <a:r>
              <a:rPr b="0" lang="es-BO" sz="2800" spc="-1" strike="noStrike">
                <a:solidFill>
                  <a:srgbClr val="3333cc"/>
                </a:solidFill>
                <a:latin typeface="Times New Roman"/>
              </a:rPr>
              <a:t>consen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erca de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los indic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ores téc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371600"/>
            <a:ext cx="74678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Un Proceso Extra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s años de consultas con más de 800 personas, 225 organizaciones, 60 países del norte y del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fera propone cuantificar algun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instrumentos jurídic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a  articulación más práctica del enfoque basado en los derechos hasta la fech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enso sobre indicadores técnicos (no nueva información, sino cons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Un Proceso E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tra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ff"/>
                </a:solidFill>
                <a:latin typeface="Times New Roman"/>
              </a:rPr>
              <a:t>En cada capítul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Normas Mí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Indicadores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Notas de Ori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Herramientas para convertir los principios y valores en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-1981440" y="615960"/>
            <a:ext cx="645156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360" y="1536840"/>
          <a:ext cx="407196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536840"/>
                    <a:ext cx="4071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Primero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compromiso de promover la observancia de los principios fundamentales del humanitarismo y una se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ibilización hacia nuestras obligacion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la enunciación de los principios human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la definción de las funciones, los deberes y las respons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el compromiso de procurar en todo momento que se cumplan las Normas Mín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Finalmente, el reconocimiento de que la responsabilidad fundamental es hacia quienes intentamos as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Carta Humani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09692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219320"/>
            <a:ext cx="9144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rma de evaluación inicial.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ntes de adoptar cualquier decisión programátic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, se debe tener una comprensión cabal de la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situación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básica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en materia de nutrición y de las condiciones que pueden crear riesgos de malnutrición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.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Ejemplo de una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rma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alimentaria, 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indica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ores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us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tas de orientació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241632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819520"/>
            <a:ext cx="9144000" cy="352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procede de inmediato a una evaluación inicial de con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rocedimientos internacionalmente aceptados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abor está a cargo de personal con la debida exper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la información que se recoge se toman en consideración las normas nacional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ivas a l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nutr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modo de recoger y presentar la información sirve para que las decisiones que se adopten sean coherentes y transpar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datos se desglosan por sexo y por 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56560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tas de orientación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: fuentes de información, cuestiones imp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ita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39720" y="1523880"/>
            <a:ext cx="4084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INICIAL RÁP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L DESEMP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 DEL DESEMP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CIÓN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IMIENTO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GAC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APLICACIONES y POSIBI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762120"/>
            <a:ext cx="38098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GUIMIENTO y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O ECONÓMICO DE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LICACIÓN A LAS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IFICACIÓN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9720" y="1828800"/>
            <a:ext cx="751356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inadecu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parte de los donantes o «tecnócratas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de pobreza gener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con las poblaciones anfitri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ida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pecificidad cult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imero que se necesita son los recursos y el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Puntos inquiet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n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2:58:23Z</dcterms:created>
  <dc:creator>Sean Lowrie</dc:creator>
  <dc:description/>
  <dc:language>en-US</dc:language>
  <cp:lastModifiedBy>Buzard Nan</cp:lastModifiedBy>
  <cp:lastPrinted>2002-04-29T14:00:16Z</cp:lastPrinted>
  <dcterms:modified xsi:type="dcterms:W3CDTF">2002-09-19T10:58:28Z</dcterms:modified>
  <cp:revision>133</cp:revision>
  <dc:subject/>
  <dc:title>Introduction to Sphere </dc:title>
</cp:coreProperties>
</file>