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468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47200" cy="98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689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5832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686120"/>
            <a:ext cx="50198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37080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79360" y="9370800"/>
            <a:ext cx="29689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5738-4E31-41E6-AD9A-690ACF6BF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79360" y="9370800"/>
            <a:ext cx="29689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5201-0F2E-4FEF-B477-B5D577A5FA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37080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79360" y="-360"/>
            <a:ext cx="29689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79720" y="-1440"/>
            <a:ext cx="2968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9720" y="9371160"/>
            <a:ext cx="2968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37116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44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684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683240"/>
            <a:ext cx="5019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6BC-D2F5-41E7-AFE0-70A2E849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793-26FD-4212-9525-DF3B027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DF0-362C-4751-8D43-01D61E66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F8-3D72-4725-9027-6063ED81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3DD5-834C-468B-9A31-129487FF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0FF6-0268-4B8E-B247-A7D7D04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436-A155-49A9-A859-A6F216AB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D0F5-D328-4B57-8241-88711C2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C96-080C-4A18-A982-108A17FA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6261-0B6A-41D0-869F-C609434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CAE2-DE8E-480B-A69A-86A3A16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13C-990E-4185-919C-C4FB22D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4475-A3F1-401E-91E7-588FD44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57E-F9D0-4012-BC22-9CD7056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C764-5A90-4970-BD74-F227BD78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2B09-4AEB-4C66-B8BC-587B1540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EC37-1F07-4051-B4B5-690AFFBB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CD7-8793-483E-8DD8-A11687E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12A-1D20-4B31-8C96-3BEC129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70D-F2CF-45DF-8083-CD2B4CAA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410-ADC1-4A07-ABA8-8CE3B75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DA3-FCB0-4B21-8D98-0801014F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962-04C1-47F5-AA0F-730259A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CD5-7C50-40CD-B41B-4D1ADA6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637-2BEB-442D-B570-5BF2918FD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52B-D1AE-4CBB-A802-B20D1D905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MX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Proyecto Esfera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708660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800" spc="-1" strike="noStrike">
                <a:solidFill>
                  <a:srgbClr val="ffffff"/>
                </a:solidFill>
                <a:latin typeface="Times New Roman"/>
              </a:rPr>
              <a:t>Módulo de Capacitación 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Esfera y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preparación para desast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¿Qué es una amenaza?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amenaza es u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ecimi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 natural o provocado por el hombre, que puede potencialmente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sencadenar un desastre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guno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jemplos son los 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remoto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los deslizamientos de lodo, las inundaciones, las erupciones volcánicas, lo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sunami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las sequías,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 des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m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conómi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y la gue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 d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ecimien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físico en sí mismo no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necesariamente lugar a un desas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CC0-3B6C-4B42-A0BF-7A19F31496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¿Qué es un riesgo?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probabilidad / posibilidad de que ocurra un desast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álisis de riesg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upon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termin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las probabilidades de que ocurra un desast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69B-56EB-41B7-ABEE-662BEABF2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¿Qué es la capacidad ?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capacidad son los recursos de los individuos, las familias y las comunidades para enfrentar una amenaza o resistir al impacto de una amenaz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a pregunta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¿Qué capacidades se pueden usar o desarrollar para aumentar la capacidad de las personas para enfrenta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alquier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ven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idad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entiu%20Girls%20laughing%20in%20Sudan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381024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1C4-B2AC-422F-A475-85BA8D209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Garamond"/>
                <a:ea typeface="Times New Roman"/>
              </a:rPr>
              <a:t>¿Qué es la vulnerabilidad humana?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Vulnerabilidad Humana es el grado en que las personas pueden ser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susceptible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a las pérdidas, los daños, el sufrimiento y la muerte, en casos de desas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da en función de las condiciones físicas, económicas, sociales, políticas, técnicas, ideológicas, culturales, educativas, ecológicas e institucion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vulnerabilidad se relaciona con la capacidad de un individuo o de una comunidad para enfrentar amenazas específicas en un momento dado.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236-4C19-40E1-B63B-553F8E5B3E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¿Cuáles son </a:t>
            </a:r>
            <a:r>
              <a:rPr b="0" lang="en-GB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l</a:t>
            </a: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os </a:t>
            </a:r>
            <a:r>
              <a:rPr b="0" lang="en-GB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i</a:t>
            </a: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ngredientes?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 x V - C = 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menaza x Vulnerabilidad – Capacidad = Ries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9E8-8ECE-4BD2-85D6-486CA7F9AE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Amenaza x Vulnerabilidad - Capacidad = Riesg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381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enaz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menaza potencial al ser human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y a su bien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ulnerabilidad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posición y susceptibilidad a la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pérdida de la vida o de la dig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pacidad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ursos disponibles y poten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babilidad de que ocurra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desas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334120"/>
            <a:ext cx="80010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sastre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terializ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de un         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ies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FC5-B23D-4B64-8EE5-304C54B77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Times New Roman"/>
              </a:rPr>
              <a:t>¿Qué diferencia hay?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preparación para desast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mitigación de desast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prevención de desastr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7C8-8317-40BF-87CA-A3F1D0B814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Garamond"/>
              </a:rPr>
              <a:t>¿Qué es la preparación para desastres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medidas que garantizan la p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para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y la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paci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d de una sociedad pa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cer previsione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y tomar medidas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eventiv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con antelación a una amenaza inmin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cionar ante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efectos de un desastre 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frentarl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organiz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reci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do asistencia efectiva a tiemp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La participación es esencial en todas las etap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375-DB74-4A4C-97EC-85B3831681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arrollar y probar sistemas de alerta tempr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anes de evac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anificar las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er polí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segurar recurs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tc,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Garamond"/>
              </a:rPr>
              <a:t>Ejemplos de</a:t>
            </a:r>
            <a:r>
              <a:rPr b="0" lang="en-GB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Garamond"/>
              </a:rPr>
              <a:t>actividades de</a:t>
            </a:r>
            <a:r>
              <a:rPr b="0" lang="es-MX" sz="4400" spc="-1" strike="noStrike">
                <a:solidFill>
                  <a:srgbClr val="ffff00"/>
                </a:solidFill>
                <a:latin typeface="Garamond"/>
              </a:rPr>
              <a:t> preparació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6" name="HCR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8A4-665B-4ECD-84DD-B15C9082A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vención, mitigación y  preparación para desastr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66688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evención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sas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tinadas a proporcionar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ot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manente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ente a los desas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1981080"/>
            <a:ext cx="27432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itigac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sas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edidas tomadas con antelación al desast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reduci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su impacto en la sociedad y en el med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981080"/>
            <a:ext cx="29718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epar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ión p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sas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pac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ad de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e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r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efectos de un desastre,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reacciona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nfrentarlo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B36-23B4-4B65-B97F-0DAA3D974F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Garamond"/>
                <a:ea typeface="Times New Roman"/>
              </a:rPr>
              <a:t> </a:t>
            </a:r>
            <a:r>
              <a:rPr b="0" lang="es-MX" sz="5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opósito del Módulo 4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cars%20in%20Venezuela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954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990720" y="1828800"/>
            <a:ext cx="472464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zar el marco conceptual básico  rela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nado co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reparación para desastres y explorar cómo se relaciona este marco conceptual con el manual Esf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1372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D43-4490-4CA5-B228-23D232A18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vención y mitigación de desa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evención supone eliminar el riesgo mientras que la mitigación es la reducción del mismo. La prevención y la mitigación apropiadas ‘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arroll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la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alez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las personas y atajan las causas de la vulnerabilidad’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Squater%20in%20Freetown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3276360" cy="2361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3429000"/>
            <a:ext cx="52578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 desarrollo d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 autonomía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de la comunidad 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u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derecho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 participació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son aspectos centrales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ra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a buena preparación y  mitig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505-7411-45F2-B230-7712F76D1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Mitigación:  C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ó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mo se 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ueden reducir los riesg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ducción del pelig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de protecciones contra las inund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jora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v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fuerzo de cuestas contra de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iminación de focos de  infecció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5816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ducción de la vulner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ones antisís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tudios microsísmicos para definir áreas vulner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ubic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ón d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sentamientos 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s de las rib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jora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a salud y la nutr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cunació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C81-749C-4E6F-8572-783BEFFE59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</a:rPr>
              <a:t>Sesión 2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676160" y="41911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reparación para desastres Estudio de ca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guntas  del estudio de caso Opción 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da grupo diseñará una iniciativa de PD 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d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n cuenta lo que se ha dicho hasta aho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grupos presentarán sus iniciativas al grupo de donantes q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“financiará”  esta  inici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en el manual tanto como sea po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9D1-417C-432D-89BF-962C5EF277E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guntas  del 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e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studio de 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c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aso Opción 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cinco ejemplos específicos de normas relevantes para manejar esta clase de situaciones en el futuro – dar referencias del man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ista tres problemas mayores de planificación y coordinación que afectarán a la respuesta y haz recomendaciones para mejorarlos, basándote en experiencias prev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ista cuatro maneras que podrías  usar para mitigar o reducir la gravedad de un desastre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a cómo la gente que se encuentra en situaciones de riesgo puede participar en estas iniciativ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B19-0371-4370-A6D7-7F3ABE7B1D1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Garamond"/>
                <a:ea typeface="Times New Roman"/>
              </a:rPr>
              <a:t>La Carta Humanita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6576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Entendemos que el derecho de una persona a la vida entraña el derecho a que se adopten medidas para preservarla toda vez que esté amenazada, así como el correspondiente deber de otras personas de adoptar tales medidas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905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 Imperativo Humanitario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s referimo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la convicción de que se deben adoptar todas las medidas posibles para 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vitar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liviar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l sufrimiento humano..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357-B907-485B-A631-39DF1CA8F4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1676520"/>
            <a:ext cx="8610480" cy="4876560"/>
          </a:xfrm>
          <a:prstGeom prst="ellipse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5909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a gente tiene derecho  a vivir con dig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1828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a gente tiene derecho a las normas mí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124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a gente tiene derecho a ser apoyada en sus propias actividades de mitigación y prepa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429000"/>
            <a:ext cx="640080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8000" spc="-1" strike="noStrike">
                <a:solidFill>
                  <a:srgbClr val="ffff00"/>
                </a:solidFill>
                <a:latin typeface="Times New Roman"/>
              </a:rPr>
              <a:t>Esfera</a:t>
            </a:r>
            <a:r>
              <a:rPr b="1" lang="en-GB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ne re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vancia directa y 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untala el enfoque de la mitigación y la preparación para desast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223-3E96-408D-9C20-BDF845961D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paración básica para el desast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523880"/>
            <a:ext cx="1676520" cy="15242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600200"/>
            <a:ext cx="1676160" cy="1447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áli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pac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1523880"/>
            <a:ext cx="1676160" cy="15242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809880"/>
            <a:ext cx="411480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4952880"/>
            <a:ext cx="42670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676520"/>
            <a:ext cx="144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álisis del 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00400" y="1599840"/>
            <a:ext cx="2743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ordinación &amp;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886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ntos de referencia (Esfe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952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rategia organiz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6172200"/>
            <a:ext cx="403848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60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2133720"/>
            <a:ext cx="381240" cy="380880"/>
          </a:xfrm>
          <a:prstGeom prst="plus">
            <a:avLst>
              <a:gd name="adj" fmla="val 4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133720"/>
            <a:ext cx="380880" cy="380880"/>
          </a:xfrm>
          <a:prstGeom prst="plus">
            <a:avLst>
              <a:gd name="adj" fmla="val 4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4343400"/>
            <a:ext cx="1828800" cy="533520"/>
          </a:xfrm>
          <a:prstGeom prst="downArrow">
            <a:avLst>
              <a:gd name="adj1" fmla="val 51907"/>
              <a:gd name="adj2" fmla="val 47023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5562720"/>
            <a:ext cx="1447920" cy="533160"/>
          </a:xfrm>
          <a:prstGeom prst="downArrow">
            <a:avLst>
              <a:gd name="adj1" fmla="val 60528"/>
              <a:gd name="adj2" fmla="val 5356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3124080"/>
            <a:ext cx="609480" cy="609840"/>
          </a:xfrm>
          <a:prstGeom prst="plus">
            <a:avLst>
              <a:gd name="adj" fmla="val 375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37120" y="1676520"/>
            <a:ext cx="10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5BC-0C7F-41CB-93AB-3B1FB9C9CF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La aplicación de la Esfera a la P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05740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Si una respuesta adecuada requiere ciertas normas,  entonces las medidas de preparación deben considerar estas normas antes de usa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886200"/>
            <a:ext cx="4038480" cy="2286000"/>
          </a:xfrm>
          <a:prstGeom prst="ellipse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108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0384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La Esfera es directamente relevante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a: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6576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 –</a:t>
            </a:r>
            <a:r>
              <a:rPr b="0" i="1" lang="es-ES" sz="2800" spc="-1" strike="noStrike">
                <a:solidFill>
                  <a:srgbClr val="ffff00"/>
                </a:solidFill>
                <a:latin typeface="Times New Roman"/>
              </a:rPr>
              <a:t>El Proces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de preparación (Participación y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oordina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9528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I – </a:t>
            </a:r>
            <a:r>
              <a:rPr b="0" i="1" lang="es-ES" sz="2800" spc="-1" strike="noStrike">
                <a:solidFill>
                  <a:srgbClr val="ffff00"/>
                </a:solidFill>
                <a:latin typeface="Times New Roman"/>
              </a:rPr>
              <a:t>El Product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de la preparación (Medidas concretas de prepara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DDE-BC73-455F-BDA7-F4CA5D8930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Times New Roman"/>
              </a:rPr>
              <a:t>Ejercicios opcionales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</a:rPr>
              <a:t>Sesión 1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14600" y="41144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Conceptos bás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bcbcb"/>
                </a:solidFill>
                <a:latin typeface="Garamond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La</a:t>
            </a:r>
            <a:r>
              <a:rPr b="1" lang="es-MX" sz="4400" spc="-1" strike="noStrike">
                <a:solidFill>
                  <a:srgbClr val="cbcbcb"/>
                </a:solidFill>
                <a:latin typeface="Garamond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Preparación para las situaciones de 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e</a:t>
            </a: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mergenc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eparación para las situaciones de emergencia es la prontitud con que una sociedad podría enfrentar un desastre pot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actividades está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tas par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la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ona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las organizaciones estén listas para reacciona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ua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a  situación de desastr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262%20Within%20the%20Movement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995600" y="556272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hoto: Chris Bla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8FD-34C1-4578-A280-88B5CBB6CC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Análisis del riesgo – a quién debe invol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u</a:t>
            </a:r>
            <a:r>
              <a:rPr b="1" lang="es-ES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cr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un buen análisis del riesgo,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s comunidades s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organ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za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dentific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y 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en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 amenaz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vulner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 capacida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licitando acciones para red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vulnerabilidades y los peligros, o a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ando en ese sen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294%20Interact,%20with%20donors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97160" y="518148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hoto: Chris Bla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CD0-9A62-4A56-B2DD-1EFA614A96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Garamond"/>
                <a:ea typeface="Times New Roman"/>
              </a:rPr>
              <a:t>Una herramienta simple para analizar el riesg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14400" y="2166840"/>
          <a:ext cx="747864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66840"/>
                    <a:ext cx="7478640" cy="3934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838080" y="1981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752480"/>
            <a:ext cx="762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74A-5D6A-4B5F-B0C7-00F13B61E5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Análisis de la Capacidad y la Vulnerabilidad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(ACV)</a:t>
            </a:r>
            <a:r>
              <a:rPr b="0" lang="es-MX" sz="3600" spc="-1" strike="noStrike">
                <a:solidFill>
                  <a:srgbClr val="cbcbcb"/>
                </a:solidFill>
                <a:latin typeface="Garamond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necesitará cada cual y qué podrá proveer?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análisis de la vulnerabilidad se equilibra a través del ‘análisis de las capacidade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s las comunidades tienen sus capac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mitigación y la preparación dependen tanto de la capacidad como de la vulner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FERA se basa en el principio de reconocimiento de la capacidad y de las diferentes funciones de las organizaciones de res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DF2-3E11-43FF-BE1F-D4CE15AEF4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Works/UNHCR (based on Anders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ísicas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es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cionales/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udinales 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2057400"/>
            <a:ext cx="0" cy="40384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0" y="1603440"/>
            <a:ext cx="26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ulnerabil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30840" y="1603440"/>
            <a:ext cx="205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3124080"/>
            <a:ext cx="7583400" cy="0"/>
          </a:xfrm>
          <a:prstGeom prst="line">
            <a:avLst/>
          </a:prstGeom>
          <a:ln w="101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4343400"/>
            <a:ext cx="7583760" cy="0"/>
          </a:xfrm>
          <a:prstGeom prst="line">
            <a:avLst/>
          </a:prstGeom>
          <a:ln w="1015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2057400"/>
            <a:ext cx="0" cy="41148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057400"/>
            <a:ext cx="2286000" cy="7621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2971800"/>
            <a:ext cx="3200400" cy="14479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4419720"/>
            <a:ext cx="2286000" cy="990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3962520"/>
            <a:ext cx="3733560" cy="1676160"/>
          </a:xfrm>
          <a:prstGeom prst="ellipse">
            <a:avLst/>
          </a:prstGeom>
          <a:solidFill>
            <a:srgbClr val="a8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3200400"/>
            <a:ext cx="2286000" cy="990720"/>
          </a:xfrm>
          <a:prstGeom prst="ellipse">
            <a:avLst/>
          </a:prstGeom>
          <a:solidFill>
            <a:srgbClr val="a8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Garamond"/>
              </a:rPr>
              <a:t>Análisis de la Capacidad y la Vulnerabilida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057400"/>
            <a:ext cx="2667240" cy="1143000"/>
          </a:xfrm>
          <a:prstGeom prst="ellipse">
            <a:avLst/>
          </a:prstGeom>
          <a:solidFill>
            <a:srgbClr val="a800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B3A-33E0-49CC-92F0-4C09793EFA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00400" y="2666880"/>
            <a:ext cx="2819520" cy="2244600"/>
          </a:xfrm>
          <a:prstGeom prst="rect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IÓN DE DESAST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1600200"/>
            <a:ext cx="152424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or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9440" y="1600200"/>
            <a:ext cx="190512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676520"/>
            <a:ext cx="1981440" cy="8254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ografía del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2514600"/>
            <a:ext cx="190512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str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4038480"/>
            <a:ext cx="152388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181480"/>
            <a:ext cx="243828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habil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5181480"/>
            <a:ext cx="190476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3505320"/>
            <a:ext cx="152424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4343400"/>
            <a:ext cx="1752480" cy="45972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6540480"/>
            <a:ext cx="388620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: “Reducing Risk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018-AFF7-4997-BE56-132E296DBF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Objetivos del aprendizaj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r los elementos clave de las definiciones más comúnmente usadas para los términos: desastre, amenaza, riesgo, capacidad y vulner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plicar la diferencia entre preparación para desastres, prevención de desastres y mitigación de desa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1730520"/>
            <a:ext cx="79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final de la sesión 1, los participantes podrá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244-3AD2-4E03-8E7A-7F68B02EB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Times New Roman"/>
              </a:rPr>
              <a:t>Planteamientos iniciales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s poblaciones afectadas por desastres tienen derecho a la asist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s poblaciones afectadas por desastres tienen derecho a determinar el tipo de asistencia que necesi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eparación para desastres ofrece posibilidades interesantes para una participación basada en estos derech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eparación es un paso importante hacia la buena calidad y la responsabilidad en la res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064-36CC-408C-A4C6-359EE4808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¿Qué es un </a:t>
            </a:r>
            <a:r>
              <a:rPr b="0" lang="en-GB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d</a:t>
            </a: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esastre?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xamin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con 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 grupo cu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s son los elementos comúnmente incluidos en la mayoría de las definiciones de lo q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 es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un desas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Floods%20in%20Somalia%20Juba%20Valley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038480" cy="2362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58880" y="632448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hoto: Chris Bla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3FD-5EFE-4D6F-A9D6-1A22FD1C1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loods%20in%20Somalia%20Juba%20Valley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1676520"/>
            <a:ext cx="7467840" cy="487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Los elementos comunes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Afecta a una pob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Suele resultar de un pelig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Está directamente relacionado con la vulner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Excede la capacidad de la familia, la comunidad o el grupo de personas para enfrentar la sit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Los procesos sociales desempeñan un papel importa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</a:t>
            </a:r>
            <a:r>
              <a:rPr b="0" lang="es-ES" sz="2800" spc="-1" strike="noStrike">
                <a:solidFill>
                  <a:srgbClr val="0066cc"/>
                </a:solidFill>
                <a:latin typeface="Times New Roman"/>
              </a:rPr>
              <a:t>iene</a:t>
            </a:r>
            <a:r>
              <a:rPr b="0" lang="es-MX" sz="2800" spc="-1" strike="noStrike">
                <a:solidFill>
                  <a:srgbClr val="0066cc"/>
                </a:solidFill>
                <a:latin typeface="Times New Roman"/>
              </a:rPr>
              <a:t> más que ver con la sociedad que con los fenómenos natur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FDA-8337-447C-A0EC-7D176DE42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El manual Esfera </a:t>
            </a:r>
            <a:r>
              <a:rPr b="0" lang="en-GB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l</a:t>
            </a:r>
            <a:r>
              <a:rPr b="0" lang="es-ES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o define así</a:t>
            </a:r>
            <a:r>
              <a:rPr b="0" lang="es-MX" sz="6000" spc="-1" strike="noStrike">
                <a:solidFill>
                  <a:srgbClr val="ffff00"/>
                </a:solidFill>
                <a:latin typeface="Garamond"/>
                <a:ea typeface="Times New Roman"/>
              </a:rPr>
              <a:t>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"Situación en la cual las personas se ven privadas de los medios normales de sostén de la vida en condiciones de dignidad como consecuencia de una catástrofe natural u ocasionada por la acción humana." Pag. 2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698-2912-4DAD-97C4-0B83DD00D0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Times New Roman"/>
              </a:rPr>
              <a:t>Discutan y pónganse de acuerdo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Amena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Vulnerabi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Capac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FERA - Prepar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CED-4311-445D-8C6D-630B76437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3T07:52:36Z</dcterms:created>
  <dc:creator>John Telford</dc:creator>
  <dc:description/>
  <dc:language>en-US</dc:language>
  <cp:lastModifiedBy>Buzard Nan</cp:lastModifiedBy>
  <cp:lastPrinted>2000-04-19T11:02:40Z</cp:lastPrinted>
  <dcterms:modified xsi:type="dcterms:W3CDTF">2002-09-22T16:57:57Z</dcterms:modified>
  <cp:revision>196</cp:revision>
  <dc:subject/>
  <dc:title>DISASTER MITIGATION AND PREPAREDNESS </dc:title>
</cp:coreProperties>
</file>